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5D7D-D2C0-49CC-A7B1-CCF4901BB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772D-1B07-40DF-B798-389E42BA9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7C40-E915-439B-9016-89E9F4F77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DC79-048A-4EA0-B6CD-83BF95B1D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5A9B-53FC-4756-B8B7-F0ECBF9CA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672D-3E74-4FD4-85F8-91F0D973F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B8F0-98CC-417B-A708-4F803DDDF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B1AF-CE48-4272-8947-F16EA1537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F859-2865-41FE-8066-59B8E8611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0315-6A31-4DC2-922D-51141C629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9480" y="65412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83C8-78DD-421E-8321-F9EDE5600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E886-82A5-4AB2-A8D4-C036B207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1A95-56E6-4272-BFA9-42B7354AE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6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7CF1-AE5D-432A-BB7B-F0313B201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04560" y="4218120"/>
            <a:ext cx="655308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03DC-018F-4A7F-8062-D0BA092C4D9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0CAE-B095-42C9-A791-63499DAC1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0C3-DD0D-4032-B66A-2EC6F370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65F-2529-4218-B275-52F55E28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3A8-7FD4-4014-A0DB-EA4565E7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EE0-8408-46DB-AE40-1C25C31D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F8E-5F06-4575-A49D-557BAC36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4D4-3941-4849-BD47-8F431A8C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C93-A645-48D5-A807-2B92F666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EB1-4582-4993-8521-C4AF307B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621-507D-4197-9A30-CD53155C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40D-0B29-4DD9-93ED-0B0818C0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E1F-2503-42DD-B7B4-294883C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ECD-A4D4-4236-BC1F-3B97B00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0753-DA2E-4BF7-B951-94CA33BA0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21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МЕДИЦИНЕ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А МЕДИЦИНА 2</a:t>
            </a:r>
            <a:br>
              <a:rPr sz="2000"/>
            </a:b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8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СТРУМА, ТИРЕОИДИТИС, ТУМОРИ ШТИТАСТЕ ЖЛЕЗДЕ.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ПАРАТИРЕОИДНЕ ЖЛЕЗД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343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иолета Младен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иста-ендокрин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СТР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 (гушавост) је увећање штитасте жлез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фуз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дуларна (уни или мултинодулар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Ет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ј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ња (акутна, субакутна и хронич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ДИФУЗНА СТР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штитасте жлезде у целини уз одсуство нод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нормал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функцијом штитасте жлезде (еутироидна, нетоксична или Струма дифуса симп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дисфунк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измом (нпр. у 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цијом (нпр. у М.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28600" y="1447560"/>
            <a:ext cx="9601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штитасте жлезде у целини уз одсуство нодуса при чему је функција штитасте жлезде нормал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око 10% популације, однос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ж:м=8: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ем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&gt;10% становништва има струму, подручја са недовољном количином Ј (дневне потребе су 100-150µг јода, недостатак јода ако је дневна екскреција Ј урином &lt;10µг/д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м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обично непознатог узрока): биохемијски поремећаји у синтези тироидних хормона (транспорт јода, синтеза ТГ, органификација Ј), експозиција струмогенима (нпр. тиоцијанати из поврћа - купус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3712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ген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стимулација деобе тиреоцита пу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их концентрација/активности ТСХ (недостатк јода, биохемијски поремећаји, струмогене материје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а имуноглобулина који се везују за ТСХ рецепторе на тиреоцити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371240"/>
            <a:ext cx="9753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ва 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ефект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ахеја (сув, надражајни кашаљ, диспнеј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мберт-ов знак: погоршање диспнеје код подизања руку, стридо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едњак (дисфаг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. 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ренс (промуклос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летора (компресија на вене вра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05280" y="1371240"/>
            <a:ext cx="9906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 (инспекција и палпација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увећањ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се запажа само палпац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жа се приликом забацивања гл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идљива при нормалном положају гл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ка струма видљива из даљ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(диф.дг. нодозне и дифузне струм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Т4, ТС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1430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обично није потребна, терапијске опц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препарат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ј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ендемске 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Левотирокс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спорадичне струме (ако је повишен ТСХ, код младих почети са 100µг, а код старијих са 50µ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 (ако постоје изразити компресивни симпто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NODOSA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(uninodosa, pol</a:t>
            </a:r>
            <a:r>
              <a:rPr b="1" i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nodosa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локализованог увећања ткива штитасте жлезде обично праћена еуметаболизмом (ређе хипер- или хипометаболиз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анатом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тумори (моноклонско увећање), хиперцелуларност и/или цистична трансформација, хеморагије, фибр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до 12% популације, чешће код жена, инциденца расте са годинама стар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TRUMA NODOSA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(uninodosa, pol</a:t>
            </a:r>
            <a:r>
              <a:rPr b="1" i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152640" y="1295280"/>
            <a:ext cx="9296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ефекти на трахеју, нерве ларинкса, једњак, вене врата (нагли бол и увећање сугерише појаву хеморагије у нодус, сумња на малигнит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 (инспекција и палпа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, ређе НМР или Ц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ија штитасте жлез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НА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спираци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биопсиј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анком игл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TRUMA NODOSA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(uninodosa, pol</a:t>
            </a:r>
            <a:r>
              <a:rPr b="1" i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на малигног потенцијала нод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Лев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ксина у циљу редукције концентрације ТСХ (не препарата јода јер може довести до Јод-Басе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љевог ефек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радиоактивног ј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о 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СИЛАБУ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143000"/>
            <a:ext cx="9372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, клиничка слика, дијагностика и лече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, клиничка слика, дијагностика и лече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ити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не неоплаз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етиопатогенеза, клиничка слика, дијагностика и 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зам калцијума и хормона пара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дејства и регулација  паратиреоидне фун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стички алгоритми за испитивање поремећаја функције пара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з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етиопатогенеза, клиничка слика, дијагностика и 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типле ендокрине неоплаз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ИДИТИС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ње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по то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утни: изазивачи бактерије, вируси, гљиве, радиј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и: окидач запаљења виру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: аутоимунско запаљ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кутни тиреоидити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тко, супуративно запаљ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чници: бактерије, гљивице, радијација након примене Ј131, лекови (амиодаро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, црвенило и оток у пределу штитасте жлезде, дисфагија, повишена температура и други системски знаци инфекције, позитиван биохуморални синдром запаљења, лимфаден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захтева примену антибиотика и хируршки третм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атозно запаљење штитасте жлезде изазвано вируси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мумпс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, адено- и еховирус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 траје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месе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физ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фаза (тиреотоксикоза): иницијално деструкција фоликула (уз ослобађање ТГ, Т3 и Т4  и пораст њихове концентрације у плазми – хипертироксинемија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за опоравка уз развој транзиторне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28600" y="1447560"/>
            <a:ext cx="960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агло или постепено: мигрирајући бол у врату, повишена температура, системски знаци инфекције, иницијално знаци хипертироксинемије (убрзан рад срца, презнојавање, мршављење, малаксалост), затим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биохуморални синдром запаљења (СЕ, ЦРП, фибриноген, леукоцит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е вредности тироидних хормона уз супримиран ТС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1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ровање, одмо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САИЛ (аспирин 500мг на 6 до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некад Г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г код тежих облика боле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ета-адренергички блокатори (за контролу симптома тиреотоксикоз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вотироксин у случају пролонгиране фазе хипотире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28600" y="1371600"/>
            <a:ext cx="9601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о, орган-специфично запаљење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чест поремећај (аутопсијски налаз 20-40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утироидних пацијената), 4-10 пута чешћи код ж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презента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, обично праћен хипотиреоидиз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иедел-ов хронични тиреоидитис, обично праћен еути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 тиреоидитис у склопу М.Гравес, обично праћен хипертиреоидиз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81240" y="1371240"/>
            <a:ext cx="9829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ип 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 тип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утироидни статус. АнтиТПО Аб +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А: са струмом; 1Б: без 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ип 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 тип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ни статус. АнтиТПО Аб +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А са струмом; 2Б без струме; 2Ц: транзиторне форме (постпартална хипотиреоза,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ип 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А Хипертиреоза: АнтиТСХРАб+; АнтиТПО и АнтиТГ Аб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Б Еутиреоза са супримираним ТСХ. АнтиТСХ–Р Аб 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Ц Хипотиреоза; Орбитопатија; АнтиТПОАб + или 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Бенигн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оликуларн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Малигн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орекла фоликуларних ће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оше диферент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иферентовани Ца (анапластич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орекла Ц-ће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римарног нееп</a:t>
            </a:r>
            <a:r>
              <a:rPr b="0" lang="sr-CS" sz="2400" spc="-1" strike="noStrike">
                <a:solidFill>
                  <a:srgbClr val="3333cc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телног 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, сарк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Секунд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Фоликуларни аденом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оиде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лпа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дус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 бити на сцинтиграфији: афункцијски (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ла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, хипофункцијски, функцијски (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п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и хиперфункцијски (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у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жељна 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 за дијагно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нису сумњи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примират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вотирокси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ати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мњи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 (мушкар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з р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спешна супре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Подтипови фоликуларних адено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ВЕНЦИО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бекуларни/солидни (ембрионал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фоликуларни (фетал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офоликуларни (симпле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крофоликуларни (колоид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ЈАН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јалинизирајући трабекул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нкоцитни (оксифилни и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rtle cel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и са папиларном хиперплаз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цијски (токсични) аден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ипични (хиперцелуларни) аден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95480" y="0"/>
            <a:ext cx="9491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ЕНДОКРИНОГ СИСТ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27200" y="1454040"/>
            <a:ext cx="3260520" cy="7038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РЕМЕЋАЈИ МОРФОЛОГ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209600" y="4952880"/>
            <a:ext cx="366732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генез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Ектоп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троф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отрофиј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85840" y="4400640"/>
            <a:ext cx="3691080" cy="3988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еизмењена морфолог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98440" y="2590920"/>
            <a:ext cx="3678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ертоф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ерплаз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еоплазија (бенигна или малигн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124600" y="1476360"/>
            <a:ext cx="3260520" cy="7038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РЕМЕЋАЈИ        ФУНКЦ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748480" y="281304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Хипер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789520" y="4352760"/>
            <a:ext cx="2522520" cy="3988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ормо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869080" y="561960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Хипо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847800" y="2103480"/>
            <a:ext cx="0" cy="37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340240" y="2143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825480" y="338292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836640" y="4572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846000" y="585000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5332320" y="29862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5343480" y="457200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5332320" y="578340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Папиларни карцином тироиде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9829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малигни тумори (70%),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и код жена (30-40го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хиостолошки: папиле, псам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стазе у ЛГЛ, ређе кости, мозак и плу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лична прогн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се дијагностиковати путем ФН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опходна ти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декто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Фоликуларни карцином тироиде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5-25% од свих малигних неоплазми тиреоиде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код старијих од 40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ује фоликуле богате тиреоглобул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ши инвазију капсуле тум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ши инвазију крвних су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зира у плућа и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Медуларни карцин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кла Ц ћелија (парафоликуларних ћелиј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Т 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г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гоналне и вретенасте ћел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ома богата амилои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ски маркер ј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то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ледни случајеви се јављају заједно са феохромоцитом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Анапласт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ч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(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едиферентова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52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ови: Џиновске ћ.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етенасте ћ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Саркоматои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изг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ије ж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 и смртонос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малих ћел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је у питању лимф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Лимфоми тироиде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добро диферентован Б-ћелијски 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дружен са аутоимунским тиреоидитис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ије називан “карцином малих ћелиј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Карциноми штитасте жлезд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280" y="997200"/>
            <a:ext cx="8788680" cy="8254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Тип тумо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налаз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метастазе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      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рогно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2215440"/>
            <a:ext cx="9050400" cy="3706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апиле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Г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одлич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у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лућ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обр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оид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лућ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јет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напласт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ч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Гигантске 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исемина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Одређивање стадијума тум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Дефи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Т, Н, 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стадију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Тумор (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е категорије могу бити подељене 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а) солит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, (б) мултиф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X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може бити процењ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знакова присуства примарног тум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2 ц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мање у највећој димензији, локализован у тироиде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&gt; 2 ц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али мањи 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ц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највећој димензији, локализован у тироиде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&gt; 4 ц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највећој димензији локализован у тироидеј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о које величине са екстратироидн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е.г.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ширење на стерноклеидомастоидни мишић или перитироидно меко 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Тумор (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а 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о којих димензија који се шири ван тироидне капсуле и врши инвазију субкутаног меког ткива, ларинкса, трахеје, езофагуса или н.рецурренс-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б 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ши инвазиј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вертеб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фас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каротидне артерије 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диастин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х крвних судов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сви анапластични карциноми се класификују као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Т4 тумор</a:t>
            </a: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а Интр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ои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напла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је ресектаби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б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кстратирои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напла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а који је иноперабил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Регионал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и лимфни нодус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(Н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лимфни нодуси централног компартмана врата, латерални цервикални и горњи медијасти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ЛГЛ се не могу процен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метастаза у регионалним ЛГ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стазе у регионалним ЛГ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1а Мета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е до нив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ВИ (претрах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паратрах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г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Л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1б Мета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нилате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билате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тралате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ер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горње медијастиналне лимфне ноду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томи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физиологи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болест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ити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Удаљене метастаз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(М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даљене метастазе се не могу процен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удаљених метаста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тне удаљене метаста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Лечење тироидних карцинома радиоактивним јод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арање преосталог “нормалног” тироидног тк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арење преосталих канцерогених ће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ја удаљених метаст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изација сензитивности и специфич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еру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743200" y="6297480"/>
            <a:ext cx="6400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hen EG, et al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tolaryngol Clin North Am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3;36:129-157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457560" y="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упресија ТСХ у особа са тироидним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карцином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82600" y="1598760"/>
            <a:ext cx="8556120" cy="4398120"/>
            <a:chOff x="282600" y="1598760"/>
            <a:chExt cx="8556120" cy="4398120"/>
          </a:xfrm>
        </p:grpSpPr>
        <p:sp>
          <p:nvSpPr>
            <p:cNvPr id="147" name="Text Box 4"/>
            <p:cNvSpPr/>
            <p:nvPr/>
          </p:nvSpPr>
          <p:spPr>
            <a:xfrm>
              <a:off x="1462320" y="2209680"/>
              <a:ext cx="144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Хипофиз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СХ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282600" y="237168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560 h 2666880"/>
                <a:gd name="textAreaBottom" fmla="*/ 19335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6"/>
            <p:cNvSpPr/>
            <p:nvPr/>
          </p:nvSpPr>
          <p:spPr>
            <a:xfrm flipH="1" flipV="1">
              <a:off x="3159000" y="211788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920 h 2666880"/>
                <a:gd name="textAreaBottom" fmla="*/ 193392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1430280" y="4579920"/>
              <a:ext cx="151128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оид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е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8"/>
            <p:cNvSpPr/>
            <p:nvPr/>
          </p:nvSpPr>
          <p:spPr>
            <a:xfrm>
              <a:off x="3370680" y="2562120"/>
              <a:ext cx="273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9"/>
            <p:cNvSpPr/>
            <p:nvPr/>
          </p:nvSpPr>
          <p:spPr>
            <a:xfrm>
              <a:off x="728280" y="4314960"/>
              <a:ext cx="33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10"/>
            <p:cNvGrpSpPr/>
            <p:nvPr/>
          </p:nvGrpSpPr>
          <p:grpSpPr>
            <a:xfrm>
              <a:off x="6278400" y="4352760"/>
              <a:ext cx="998640" cy="1322640"/>
              <a:chOff x="6278400" y="4352760"/>
              <a:chExt cx="998640" cy="1322640"/>
            </a:xfrm>
          </p:grpSpPr>
          <p:sp>
            <p:nvSpPr>
              <p:cNvPr id="154" name="Line 11"/>
              <p:cNvSpPr/>
              <p:nvPr/>
            </p:nvSpPr>
            <p:spPr>
              <a:xfrm>
                <a:off x="6286320" y="4352760"/>
                <a:ext cx="990720" cy="1295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 flipH="1">
                <a:off x="6278400" y="4379760"/>
                <a:ext cx="990720" cy="1295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13"/>
            <p:cNvSpPr/>
            <p:nvPr/>
          </p:nvSpPr>
          <p:spPr>
            <a:xfrm>
              <a:off x="6274080" y="2209680"/>
              <a:ext cx="144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Хипофиз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СХ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14"/>
            <p:cNvSpPr/>
            <p:nvPr/>
          </p:nvSpPr>
          <p:spPr>
            <a:xfrm>
              <a:off x="4896000" y="236376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560 h 2666880"/>
                <a:gd name="textAreaBottom" fmla="*/ 19335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15"/>
            <p:cNvSpPr/>
            <p:nvPr/>
          </p:nvSpPr>
          <p:spPr>
            <a:xfrm flipH="1" flipV="1">
              <a:off x="7772400" y="210996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920 h 2666880"/>
                <a:gd name="textAreaBottom" fmla="*/ 193392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6"/>
            <p:cNvSpPr/>
            <p:nvPr/>
          </p:nvSpPr>
          <p:spPr>
            <a:xfrm>
              <a:off x="6043680" y="4572000"/>
              <a:ext cx="151092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иреоиде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7"/>
            <p:cNvSpPr/>
            <p:nvPr/>
          </p:nvSpPr>
          <p:spPr>
            <a:xfrm>
              <a:off x="7984080" y="2554200"/>
              <a:ext cx="273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8"/>
            <p:cNvSpPr/>
            <p:nvPr/>
          </p:nvSpPr>
          <p:spPr>
            <a:xfrm>
              <a:off x="5341320" y="4307040"/>
              <a:ext cx="33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Group 19"/>
            <p:cNvGrpSpPr/>
            <p:nvPr/>
          </p:nvGrpSpPr>
          <p:grpSpPr>
            <a:xfrm>
              <a:off x="7959240" y="2538360"/>
              <a:ext cx="309600" cy="393840"/>
              <a:chOff x="7959240" y="2538360"/>
              <a:chExt cx="309600" cy="393840"/>
            </a:xfrm>
          </p:grpSpPr>
          <p:sp>
            <p:nvSpPr>
              <p:cNvPr id="163" name="Line 20"/>
              <p:cNvSpPr/>
              <p:nvPr/>
            </p:nvSpPr>
            <p:spPr>
              <a:xfrm>
                <a:off x="7961760" y="2538360"/>
                <a:ext cx="307080" cy="3859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21"/>
              <p:cNvSpPr/>
              <p:nvPr/>
            </p:nvSpPr>
            <p:spPr>
              <a:xfrm flipH="1">
                <a:off x="7959240" y="2546280"/>
                <a:ext cx="307080" cy="3859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Text Box 22"/>
            <p:cNvSpPr/>
            <p:nvPr/>
          </p:nvSpPr>
          <p:spPr>
            <a:xfrm>
              <a:off x="1402200" y="1598760"/>
              <a:ext cx="1600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рмал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4648320" y="1600200"/>
              <a:ext cx="4190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ацијенти са тиреоидним Ц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4"/>
            <p:cNvSpPr/>
            <p:nvPr/>
          </p:nvSpPr>
          <p:spPr>
            <a:xfrm>
              <a:off x="6207120" y="2359080"/>
              <a:ext cx="0" cy="6094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 flipV="1">
              <a:off x="5445000" y="4989600"/>
              <a:ext cx="565200" cy="3045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6"/>
            <p:cNvSpPr/>
            <p:nvPr/>
          </p:nvSpPr>
          <p:spPr>
            <a:xfrm>
              <a:off x="3314520" y="4896000"/>
              <a:ext cx="2192400" cy="11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инимум ЛТ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и се супримирао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С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без изазивања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реотоксикозе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27"/>
          <p:cNvSpPr/>
          <p:nvPr/>
        </p:nvSpPr>
        <p:spPr>
          <a:xfrm>
            <a:off x="5410080" y="6172200"/>
            <a:ext cx="373392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verman LE, Utiger RD, eds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Werner &amp; Ingbar’s The Thyroid: A Fundamental and Clinical Tex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8th ed. Philadelphia, Pa: Lippincott, Williams &amp; Wilkins; 2000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herman SI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3;361:501-511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Циљан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ТСХ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оком супреси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09400" y="333540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.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956120" y="3335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1-0.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92840" y="3335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552680" y="2116080"/>
            <a:ext cx="242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изак или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едетактибилан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18840" y="2116080"/>
            <a:ext cx="25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упр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миран, ал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те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аб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лан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7269120" y="2133720"/>
            <a:ext cx="163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ско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389480" y="4325760"/>
            <a:ext cx="25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ћина пацијената код којих болест није евидент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557360" y="43466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ерсистент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рецурент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а болес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са високим ризик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6918480" y="4329000"/>
            <a:ext cx="210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са врло малим ризик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уго година након операциј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426600" y="3182760"/>
            <a:ext cx="10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H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U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39400" y="47419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цијен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490680" y="3030480"/>
            <a:ext cx="845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1557360" y="2573280"/>
            <a:ext cx="0" cy="352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4300560" y="2057400"/>
            <a:ext cx="2362320" cy="1905120"/>
          </a:xfrm>
          <a:prstGeom prst="rect">
            <a:avLst/>
          </a:pr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175280" y="15238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м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С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0" y="622476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herman SI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3;361:501-511.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verman LE, Utiger RD, eds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Werner &amp; Ingbar’s The Thyroid: A Fundamental and Clinical Tex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8th ed. Philadelphia, Pa: Lippincott, Williams &amp; Wilkins; 2000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6699240" y="4952880"/>
            <a:ext cx="533520" cy="551160"/>
          </a:xfrm>
          <a:prstGeom prst="downArrow">
            <a:avLst>
              <a:gd name="adj1" fmla="val 50000"/>
              <a:gd name="adj2" fmla="val 258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886720" y="550548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лa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685800" y="549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и УЗ праћењ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2000160" y="4952880"/>
            <a:ext cx="533520" cy="551160"/>
          </a:xfrm>
          <a:prstGeom prst="downArrow">
            <a:avLst>
              <a:gd name="adj1" fmla="val 50000"/>
              <a:gd name="adj2" fmla="val 258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-228600" y="0"/>
            <a:ext cx="9677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оидни карцино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 – стратегија лечењ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69360" y="290988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г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175360" y="4043520"/>
            <a:ext cx="353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тална тиреидекто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40520" y="40384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обоистмекто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172200" y="2895480"/>
            <a:ext cx="32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медијални 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ок ризи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45960" y="3124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ризи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2743920" y="13716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г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тироидног 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4413240" y="2133720"/>
            <a:ext cx="685800" cy="787320"/>
          </a:xfrm>
          <a:prstGeom prst="downArrow">
            <a:avLst>
              <a:gd name="adj1" fmla="val 50000"/>
              <a:gd name="adj2" fmla="val 287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4"/>
          <p:cNvSpPr/>
          <p:nvPr/>
        </p:nvSpPr>
        <p:spPr>
          <a:xfrm rot="18993600">
            <a:off x="3123720" y="3504960"/>
            <a:ext cx="914400" cy="620640"/>
          </a:xfrm>
          <a:prstGeom prst="leftArrow">
            <a:avLst>
              <a:gd name="adj1" fmla="val 50000"/>
              <a:gd name="adj2" fmla="val 3683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5"/>
          <p:cNvSpPr/>
          <p:nvPr/>
        </p:nvSpPr>
        <p:spPr>
          <a:xfrm flipH="1" rot="2606400">
            <a:off x="5427000" y="3351240"/>
            <a:ext cx="914040" cy="638280"/>
          </a:xfrm>
          <a:prstGeom prst="leftArrow">
            <a:avLst>
              <a:gd name="adj1" fmla="val 50000"/>
              <a:gd name="adj2" fmla="val 358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1676520" y="6324480"/>
            <a:ext cx="74674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inder BK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urr Opin Onco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3;15):71-77. Sherman SI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2003;361:501-511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Стандард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н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ретм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н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ироидних карцин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067440" y="5562720"/>
            <a:ext cx="31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b050"/>
                </a:solidFill>
                <a:latin typeface="Arial"/>
                <a:ea typeface="Arial"/>
              </a:rPr>
              <a:t>“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Whole Body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сцинт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графiј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Одrеђивaњe ТГ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и 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АнтиT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 Aб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314240" y="4083120"/>
            <a:ext cx="20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о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94280" y="1568520"/>
            <a:ext cx="276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от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екто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043600" y="533412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одиш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2765880" y="2724120"/>
            <a:ext cx="15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лa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 rot="7719600">
            <a:off x="6107400" y="4825080"/>
            <a:ext cx="470160" cy="725760"/>
          </a:xfrm>
          <a:prstGeom prst="upArrow">
            <a:avLst>
              <a:gd name="adj1" fmla="val 50000"/>
              <a:gd name="adj2" fmla="val 385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rot="7719600">
            <a:off x="4013640" y="3529440"/>
            <a:ext cx="469800" cy="725400"/>
          </a:xfrm>
          <a:prstGeom prst="upArrow">
            <a:avLst>
              <a:gd name="adj1" fmla="val 50000"/>
              <a:gd name="adj2" fmla="val 386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"/>
          <p:cNvSpPr/>
          <p:nvPr/>
        </p:nvSpPr>
        <p:spPr>
          <a:xfrm rot="7719600">
            <a:off x="2602440" y="2462760"/>
            <a:ext cx="469800" cy="725400"/>
          </a:xfrm>
          <a:prstGeom prst="upArrow">
            <a:avLst>
              <a:gd name="adj1" fmla="val 50000"/>
              <a:gd name="adj2" fmla="val 386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0" y="6172200"/>
            <a:ext cx="876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hen EG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Otolaryngol Clin North 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3;36:129-157. Mazzaferri EL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3;88:1433-1441. Sherman SI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3;361:501-511.  Mazzaferri EL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1;86:1447-1463. Mazzaferri EL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ndocr Relat Canc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2;9(4):227-247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ПАРАТИРЕОИДНЕ ЖЛЕЗД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боле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штит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жлез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паратирео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вар Сандстр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веђанин, студент медиц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ткрио параштитасте жлез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ледњи велики орг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и је идентификован код љ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аратироидни хормо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кретују га главн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араштитасте жлезде као протеин сачињен од 84 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ара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81240" y="1295280"/>
            <a:ext cx="9296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Хипер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: аденом, карцином, хиперплазија ПТЖ (хиперпродукција 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: хронична хипоклациемија (физиолошки одговор - пораст продукције 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рцијал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продукција (ПТХ, ПТХр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Хипо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еудохипопаратиреоидиз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резистенција периферних ткива на 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еудопсеудохипо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оидна жлез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мештена испод и испред ларинкс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ма два лобуса повезаних истмус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и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ф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и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идне хормо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тет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ба повећавају интезите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стимулишу синтезу протеин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ју употребу гликозе и масних киселина за продукцију АТП-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фо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ар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лцито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Ц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крви тако што инхибира реапсорпцију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Хиперкалцием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228960" y="9907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кована порем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јима пар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таст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хиперпаратиреоидиз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апија литију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милијарна хипокалциурична хиперкалци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алигн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олидни тум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м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нколошк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уфиц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рануломатозн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брзан метаболизам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пертире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обилиз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витамин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Бубрежна слаб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ундарни хиперпаратиреоидиз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апија алумињу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лечно-алкални синд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ХПТ је стање хроничне хиперкалциемије која је резултат повећаног и неконтролисаног лучења ПТХ због хиперфункције једне или више ПТЖ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аденом (81%), карцином (4%), хиперплазија ПТЖ  (спорадично или у оквиру 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457200" y="1219320"/>
            <a:ext cx="9601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физ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хиперкалциемија, хипофосфатемија, хиперкалциурија, снижење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порас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дехидратација, хиперхлоремијска ацидоза (повећано луче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O3-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уз задржава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мишићна слабост, анорексија, повраћање, опстипација, скраћен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Q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нтер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емоционална нестабилност, депресија, псих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убрежни 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концентрациона способност (полиурија, никтурија), уролитиј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штани систе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повећана реапсорпција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олитар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аратироидни карц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лтип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н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еоп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секре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води д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калцием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офосфатем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иничка слик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8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е асимптомат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пшти симптоми и симптоми ЦНС-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ор, депресија, конфузност, заборавност, емоционална нестабилност, депресија сомноленциј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Г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убитак апетита, мршављење, мука, повраћање, улкусна болест, панкреатитис, опстипациј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Г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епозити калцијума и уролитијаза (60-70% пацијен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иурија, полидипси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кулоза уротра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пструкција уротра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943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раћива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нтерва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тепор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еити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а активност остеокл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 метаболизам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дукција густине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05280" y="1295280"/>
            <a:ext cx="9906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аратироидна кри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гли пораст хиперкалциемије и погоршање општег ст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убрежна слабост због нефрокалцин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а, срчани заст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228960" y="1371240"/>
            <a:ext cx="9372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г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ишене вредности серумск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зак или ниско-нормалан фосфат у серуму (смањена реапсорпција у проксималним тубулима), повишен клиренс фосфата, хипомагнеземија, хиперхлоремија, метаболичка ацид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5(ОH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орфолошка испит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лтразвучни преглед в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цинтиграфија ПТЖ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м-тех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 сестами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81240" y="1142640"/>
            <a:ext cx="9753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ируршка интерв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теопороз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-sc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-2.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кулоза 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едикаментни третм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докнада волу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лакашвање калциурез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уретици Хенлеове пет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ањена реапсорпција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цито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ормонска тера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Рал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ф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итостатици: Митрамиц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екунд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457560" y="1447560"/>
            <a:ext cx="9829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ХПТ је хиперфункција свих ПТЖ због хроничне хипокалциемије (ПТЖ су примарно нормалне, али временом може доћи до њихове хиперплазиј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аст фосфата у акутној или хроничној инсуфицијенцији бубрега (ГФР&lt;40мл/м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м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ли резистенција ткива на Витамин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ањење апсорпције калцијума у ГИТ-у (малапсорптивни синдро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омагнез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екови: лаксативи, фенитоин, фенобарбитон, холестирам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сеудохипо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-228600" y="380880"/>
            <a:ext cx="9906120" cy="66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traiodothyro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T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iiodothyro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3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днос секреције Т4:T3  je 15: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 и T3 се ослобађају и транспортују везани за серумске     протеине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-Binding Globulin (TBG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5 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-Binding Prealbum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BP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bum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ци ↑ TBG: трудноћа, Е, цироза јетре, хепатитис, порфир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ци ↓TBG: нефротски синдром, хепатична инсуфицијенција, високе дозе ГКС, протеинска малнутри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екунд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цификати у меким ткив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р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мене на костима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н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иј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еомала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ски калцијум и витам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еитис фиброса 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екунд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редства која везују фосфа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пституција калцију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његови анало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ти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транскрипциј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 г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nacalc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ipa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Терцијал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цијални хиперпаратиреоидизам настаје током секундарног хиперпаратиреоидизма и у основи је секундарни хиперпаратиреоидизам који више не реагује на примену лек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лна стимулација хипокалциемијом доводи до хиперплазије ПТЖ, а временом на том терену може да се развије аутоном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Терцијал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28960" y="129528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чешће се развија  након трансплантације бубрега када хипертрофисане ПТЖ настављају са појачаном и неконтролисаном секрециј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мена “тачке избора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Као и секундарни хиперпаратиреоидизам, уз појачање болова у костима и свраба, те појаву слабости и лаког замар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лабораторијски пораст калцијума уз ↑фосфа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као и секундарни облик, али може бити индикована и хируршка интервенција (одстрањење аденоматозно измењених ПТЖ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228960" y="1523520"/>
            <a:ext cx="9372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хроничне хипокалциемије и хиперфосфатемије због смањене активности ПТХ збо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е синтезе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теза биолошки неактивног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зостанак одговора периферног ткива на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секреција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диопатски обли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 облици: урођени (удружен са ДиГеорге-овим синдромом) или стечени (хируршко одстрањење ПТЖ, зрачење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механизми, инфилтартивне болест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учење биолошки неактивног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а гена за ПТХ (артефицијално изазвана хипокалциемија доводи до пораста ПТХ, али без биолошког ефекта, док егзогено дати ПТХ нормализује калциемиј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зистенција периферних ткива на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магнез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еудохипопаратиреоидизам (рецепторски и пострецепторски дефекти): клиничка слика хипопаратиреоидизма уз нормалне вредности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457560" y="1142640"/>
            <a:ext cx="9906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физ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: хипокалциемија, хиперфосфатемија, пораст ЦПК и АЛ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: повећана неуромишићна раздражљивост (од парестезија до грчева мишића), продужен QТ интер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фикације меких ткива (интракранијалне, очно сочив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457200" y="1218960"/>
            <a:ext cx="9601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неуроми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ћна раздраж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парестезије лица у пределу усана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стију, тионичне и болне контракције (“акушерска шака”, карпопедални спазам), грч дијафрагме, псеудо-епилептични напади (очувана свест), настаје 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оцира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свакодневним активностима (ходање, рад, хипервенти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ија, стања алкалоз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атент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vost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ов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se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ов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b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ов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Chvostek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-ов зна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vostek-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a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познат и кa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iss-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један од 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кoвa хип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лцe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ч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т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нијe, a рeф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јe аб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мал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a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фацијал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г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р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ntišek Chvoste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е чeшко-аустри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л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ји je o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o oвaj знaк 1876. (независно oд њeгa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han Wei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83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10515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КГ: пролонгиран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Q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инверзан Т талас, АВ б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фикације меког тк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ракранијалне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hr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– базалне ганглиј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0% пацијен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чно сочи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0" y="658800"/>
            <a:ext cx="91440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 се дејодинише на периферији у T3 што чини 80%  T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и метаболит T4 j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3 (rT3) који је метаболички инактива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 улази у ћелије и везује се за групу нуклеарних рецептора, а затим утиче на многе ћелијске метаболичке ф-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ћелијски метаболиза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калцијума, фосфата, магнезијума у серу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јална дијагноза хипокалцием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малапсорп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нкреатит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протеин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магнез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или резистенција на Витамин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ПОЛИЕНДОКРИНЕ БОЛ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 групу полиендокриних болести спада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е ендокрине неоплазије (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гландуларни аутоимуни синдроми (ПГА) или синдроми имуноендокринопатиј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62480" y="-360"/>
            <a:ext cx="1074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УЛТИПЛА ЕНДОКРИНА НЕОПЛАЗ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јава тумора у две или више  ендокриних жлезда назива се мултипла ендокрина неоплазиј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975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УЛТИПЛА ЕНДОКРИНА НЕОПЛАЗИЈ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294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тражи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прошло је кроз 3 фаз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фаза (дескриптивна фаза) у којој су описивана пуна клиничка слика и образац наслеђивање у појединим синдром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 фаза у којој су развијене скрининг технике пре него што се развије пуна клиничка с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 фаза у којој је изучавана молекуларна и генетичка основа ових синдро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0880" y="5335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ој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главна типа М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, дели се на два подтип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Б (раније МЕН 3)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ни тип МЕН-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-685800" y="609120"/>
            <a:ext cx="9982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једничке карактеристике МЕН 1 и МЕН 2 с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ћелија које су укључене у неопластични проце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ви тумори показују хистолошку прогресију од хиперплазије ка аденому и, у неким случајевима, ка карцин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 хиперплазије је мултицентрични процес (сваки фокус води порекло од једног клон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 од ових синдрома има АД начин наслеђивањ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-838440" y="914400"/>
            <a:ext cx="10287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ћелија које су укључене у неопластични проце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тумори су састављени од једног или више типова ћелија које производе специфичне полипептиде и биогене амине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ћелије имају заједничко порекло од неуралног гребена и имају нека својства слична неурони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ки тумори нису састављени од овог типа ћелија: липоми удружени са МЕН 1 и ганглионеуриноми удружени са МЕН 2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ЕХАНИ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ЗМИ ТУМОРОГЕНЕЗ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синдроми имају различите механизме туморогенез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је изазван наследном мутацијом тумор-супресорног ге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 је изазван активацијо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рото-онког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ЕХАНИ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ЗМИ ТУМОРОГЕНЕЗЕ МЕН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и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и се на дугом краку 11 хромозо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ише неке важне аспекте раста, диференцијације или ћелијске смр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оба алела доводи до дисрегулације рас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ЕХАНИ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ЗМИ ТУМОРОГЕНЕЗЕ - МЕН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228960" y="1294920"/>
            <a:ext cx="9753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ротo-онкоге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 МЕН 2 синдрома долази активацијо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o-онког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ве честе РЕТ мутације активирају тирозин-киназни рецeптор што довoди до дисрегулације раста ћелија које чине основу МЕН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914400" y="0"/>
            <a:ext cx="10591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онтрола секреције тиреоидних хорм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22896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ропин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ј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Т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 или ТР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хипоталам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ТСХ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аденохипофи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а у којима је повећана потреба за синтезом АТП доводе до пораста секреције тиреоидних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МЕН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3712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је  асоциј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лазије или неоплазије (бенигне или малигне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тироидних жлез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рваца панкреас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изе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r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4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80880" y="1447560"/>
            <a:ext cx="9524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ац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aтир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острвацa панкреасa: гастрином, инсулином, глукагонoм, ВИП-ом (синдром воденe дијарејe, панкреасна колера), Панкреасни пеpтид (нема клиничке последице, али је користан марке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и хипофизе: пролактином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bus Cus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продукција АЦТХ или ЦРФ), акромега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карционидни тумори, субкутани и висцерални липоми, кутани лејомио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А је асоцијација неоплаз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-ћелија штитасте жлез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штитасте жлезд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жи надбубрег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p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 запoчињe 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ер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a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oм oдгoвaрajућ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нaк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je долази дo н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нут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o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e 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ном развијају микроскопски карциноми, а касније макроскоп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80880" y="1371600"/>
            <a:ext cx="9524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ације МЕН 2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9880" indent="-268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лтицентрични медуларни карцином штитасте жлезд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9880" indent="-268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нилатерални или билатерал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феохромоцит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9880" indent="-268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ђ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1280" indent="-290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лазија или аденом паратироидне жлезде (10-35% случај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1280" indent="-290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chen amyloidosis, M. Hirschprung, struma ovarial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2189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Б је асоцијаcija неоплазиј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-ћелија штитасте жлeзд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жи надбубрега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равa (мултиплих мукозних неурином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609840" y="1371240"/>
            <a:ext cx="10134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ац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лтицентрични медуларни карцином штитасте жлезд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нилатерални или билатерални феохромоцитом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ђ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indent="-290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нерава: мукозни неуриноми представљају повећану величину и број нерава (лице, субкоњунктивална регија-задебљали корнеални нерви, усне итд.) и дифузна гастроинтестинална ганглионеуроматоза  (пролиферација нервних елемената мијентеричног у субмукозног плексус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indent="-290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марфаноидни хабитус, пектус ексавату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indent="-290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уги, танки екстремитети ит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ШАНИ ОБЛИЦИ МЕН-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(Синдром преклапaњ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и MEН 2 са делимичним испољавaњ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eкласификовaни МЕН синдр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ШАНИ ОБЛИЦИ МЕН-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479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l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синдром преклапaњa) укључ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ледeћe варијaнт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рци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 кoм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ван сa МЕН 1 и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Н 2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хипoф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 ме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e 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гa са и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без 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e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оид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aстрино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aтoзна пo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к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на и МЕН 2Б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o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 2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еохрoмoцит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морфолог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генезија, аплазија, хипоплазија и екто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фузна стру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одозна струма (уни и полинодозн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функ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Запаљ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6:05:40Z</dcterms:created>
  <dc:creator>Bill Gates</dc:creator>
  <dc:description/>
  <dc:language>en-US</dc:language>
  <cp:lastModifiedBy>Administrator</cp:lastModifiedBy>
  <dcterms:modified xsi:type="dcterms:W3CDTF">2015-08-30T13:19:02Z</dcterms:modified>
  <cp:revision>172</cp:revision>
  <dc:subject/>
  <dc:title>PATOLOŠKA FIZIOLOGIJA ENDOKRINOG SISTEMA</dc:title>
</cp:coreProperties>
</file>