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969-1C4A-453F-BEF6-D47D0388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C199-A4D4-4445-AD38-D63F0597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8A7-5AD4-4480-B386-B03C3518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2D7D-78CD-40B6-9020-503B6774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6B9-D27E-478E-81B3-6C8C7FB0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F7D-D524-442A-9A14-E09D45D8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B7F-AB56-40C0-B14A-04619A84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707-62C7-4A72-B135-91BC8F49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014-6441-422D-BE6E-C826F22B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2BB-4FE6-4C42-94C0-F04BEBA9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FB7-8082-48A0-8B00-3962B76A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EDF-D097-4866-8FD5-C5FEC585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09,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2E2D-3B8F-4785-A92C-D875A3804F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6040" y="1941480"/>
            <a:ext cx="7772400" cy="16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ГРИСАНЕ АКАДЕМСКЕ СТУДИЈЕ МЕДИЦИНЕ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НА МЕДИЦИНА 2</a:t>
            </a:r>
            <a:br>
              <a:rPr sz="1800"/>
            </a:b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аставна јединиц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КЛИНИЧКИ АСПЕКТИ НЕУРОГЕНЕ РЕГУЛАЦИЈЕ</a:t>
            </a:r>
            <a:br>
              <a:rPr sz="4000"/>
            </a:b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БОЛЕСТИ ХИПОФИЗ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34960" y="4247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Виолета Младен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ниста-ендокринол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Аденохипофи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084320"/>
            <a:ext cx="822960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аденохипофизе се ослобађају хормони под утицајем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слобађајућ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нхиби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јућ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ктор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е ствара хипопаталм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тал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с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е стварају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урос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тор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зат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о-хипофизним портним систем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ормони аденохипофизе делују на друге ендокрине системе и зато се називају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оп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Хормони аденохипофиз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умани хормон растењ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оматотроп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ид-стиму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отроп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ул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стиму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рајућ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утеиниз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јућ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води до секреције млека из млечних жлез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дре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р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троп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р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тропин: Стиму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у гликокортикоида у кори надбубре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ланоц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-стиму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зната улога код љу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Неурохипофи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587520" y="963720"/>
            <a:ext cx="973152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синтетише хормо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ува и ослобађа хормоне које ствара хипоталам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е транспортују пут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тала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изног тра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с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оцин (ОТ)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и након порођаја остварује утицај на утерус и дојку, Појачава контракцију глатких мишићних ћелија у утерусу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стискивање млека из млечних жлез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диурe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азопреси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ује количину дефинитивног урина тако што омогућава да бубрези враћају већу количину воде у крв из примарног урина, смањује губитак воде знојењем и доводи до констрикције артериола чиме узрокује пораст крвног притис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с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ПОРЕМЕЋАЈИ  ФУНКЦИЈЕ </a:t>
            </a:r>
            <a:br>
              <a:rPr sz="3200"/>
            </a:b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ХИПОТАЛАМ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ус је одговоран за многе 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интегративне хомеостатске функције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е између аутономног нервног система и ендокриног система су координисане са информацијама из других делова моз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ус добија улазне информације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 из неокортекса и лимбичког система, као и из ретикуларног активирајућег систе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293400"/>
            <a:ext cx="8801280" cy="61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Хипоталамус има следеће функциј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температу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ендокрина контрола секреције катехолам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волумена телесних те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ација осећаја глади и жеђ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сексуалног понаш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раста и разво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дбрамбене реакције типа страха и бе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рола ритма секреције хорм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358920"/>
            <a:ext cx="777240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4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Хормони хипоталамус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хипофизотропни хормо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хормони задњег режња хипофи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58920" y="228600"/>
            <a:ext cx="8377200" cy="61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Хипофизотропни хормони</a:t>
            </a:r>
            <a:r>
              <a:rPr b="0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лазе у хипоталамо-хипофизеални портни систем и путем крви доспевају до предњег режња хипофизе где испољавају свој ефека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 да испоље стимулишући ефекат на аденохипофизу (ослобађајући или 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easing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« хормони) или инхибишући ефекат (инхибирајући хормони).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360" y="343080"/>
            <a:ext cx="937260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Хормони задњег режња хипоф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неурохипофизе) се стварају у хипоталамусу, а до задњег режња хипофизе доспевају на тај начин што »путују«  преко хипоталамо-хипофизеалног трак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е депон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 на стимулацију секретују из задње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жња хипофиз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213120" y="228240"/>
            <a:ext cx="95662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ДИСФУНКЦИЈА ХИПОТАЛАМ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3760" y="1218960"/>
            <a:ext cx="85881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о-хипофизна осовина регулише многе физиолошке процес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 зато поремећај у њеном раду оставља последице на функцију других ендокриних орга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могу бити ендокрине и не-ендокрине природ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-ендокрини симптоми су често неуролошке природе и удружени су са интракранијалним лезијама и повредама гла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БОЛЕСТИ ХИПОТАЛАМ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550520"/>
            <a:ext cx="91440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функција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психијатријски поремећаји и поремећаји понашањ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поремећаји спавања, поремећаји свести, поремећаји уноса воде, поремећаји понашања итд.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регулације аутономног нервног систем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едем плућа, срчане аритмије, поремећаји сфинктера ит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регулације метаболизм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поремећаји регулације температуре, поремећаји уноса хране ит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СИЛАБУ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223640"/>
            <a:ext cx="91440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 и класификациј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еханизми деловања хорм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усни и хипофизни хормони и њихова регул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хипоталамус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ласификација 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тиопатогене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лест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физ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ласификација 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тиопатогене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гностичке процедуре у болестима хипоталамуса и 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сипидни дијабете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дефиниција, етиопатогенеза, клиничка слика, дијагностика и леч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о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дефиниција, класификација етиопатогенеза, клиничка слика, дијагностика и леч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кромегалиј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ефиниција, етиопатогенеза, клиничка слика, дијагностика и леч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ушингова болес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етиопатогенеза, клиничка слика, дијагностика и лече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питуитариза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етиопатогенеза, клиничка слика, дијагностика и лече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Тумори хипоталам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59280" y="979200"/>
            <a:ext cx="950292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истик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 р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ендокрине 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струкција треће коморе и хидроцефал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ја нервих структура: оптички нерв, хијазма или тракт, урастање у фронтални или темпорални режањ мозг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е 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хипофизеотропних хормон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хипофизеалних хормон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БОЛЕСТИ ХИПОТАЛАМ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 “изолације хипофизе” (лезија сталка хипофи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хипофизеотропних хорм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хипофизеотропних хорм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Синдром “изолације хипофизе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213120" y="880920"/>
            <a:ext cx="935676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стао као последица деструктивних процеса у селарној регији, најчешће у пределу сталка 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тиологиј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овреде главе, хируршке интервенције, тумори и грануло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Клиничке манифест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абетес инсипидус централис (80%)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ја се у 3 фазе: иницијална фаза полиурије, фаза нормализације и након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14 дана фаза 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хипофизеотропних хормона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F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недостатак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кортизол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недостатак ФСХ и ЛХ, поремећај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ц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, ТРХ (недостатак ТСХ и Т3 и Т4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недост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 ГХ), Допамина (губитак инхибиторног ефекта на хипофизу и пораст секреције ПРЛ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Дефицит хипофизеотропних хормо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12760" y="1240920"/>
            <a:ext cx="870264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хормона хипофизеотропних хипоталамуса може бити изолован (недостаје један хормон) или вишеструк (недостаје више хормон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етски и развојни поремећај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нулом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еде мозга (саобраћајни трауматизам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Т и РТ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деце и одрасл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094040" y="0"/>
            <a:ext cx="1152828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Генетски и развојни поремећаји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хипоталаму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5040" y="1142640"/>
            <a:ext cx="9509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пто-оптичка дисплазиј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de Morsier, Sy Kallman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Lawrence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Мо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rdet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d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аутозомно рецесиван: дефици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ретардација, гојазност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dactili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Freohlic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Адипо-генитална дистрофија): дефици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дефицит Лептин-а или његовог рецептора (централни хипогонадизам, хиперфагија и гојазност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Дефицит хипофизеотропних хорм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228960" y="1069920"/>
            <a:ext cx="93726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ловани дефицит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nRH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најчешћи поремећај) доводи до хипогонадотропног хипогонадизма. Код деце доводи до Пубертас тарда (закаснели пубертет), а код особа након пубертета до хипогонадизма (секундарна аменореја, смањење либида, еректилна дисфункција, и после дуже времена губитак секундарних сексуалних карактеристик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Sy Kallmann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е развојни поремећај у к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су удружени поремећај развоја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неурона хипоталамуса и поремећај развоја олфакторног лобуса. Клиничка презентација: хипогонадотропни хипогонадизам и аносмија/хипоосмија (недостатак/смањен  осећај мирис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1f497d"/>
                </a:solidFill>
                <a:latin typeface="Arial"/>
                <a:ea typeface="Arial"/>
              </a:rPr>
              <a:t>Психогена аменоре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е обично транзиторни изостанак менструације због психичког стреса или претеране физичке активности (који доводе до смањења секрециј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Дефицит хипофизеотропних хорм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1158840"/>
            <a:ext cx="941868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ловани дефицит ТР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централног хипотиреоидизма (хипофизеални хипотиреоидизам). Долази до неадекватне синтезе ТСХ, а због тога и синтезе тироидних хормона (Т3 и Т4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ловани дефицит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недостатка ГХ (хормона растења). Последица је низак, симетричан раст дец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ловани дефицит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снижене синтезе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а затим и смањене продукције Кортизол-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Допами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хипоталамуса довешће до повећане продукције ПР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Хиперпролактинемије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1045080" y="-360"/>
            <a:ext cx="11022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Хиперсекреција хипофизеотропних хорм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420920"/>
            <a:ext cx="91440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ertаs praecox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рани пубертет) – настанак физиолошки нормалне функције осовине хипофиза-гонаде пре времена: појава менструационог циклуса код девојчица пре 8 године, а појава сперматогенезе код дечака пре  9 или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год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тумори хипоталамуса (најчешћ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екретујући хамарт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407880" y="0"/>
            <a:ext cx="979632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Хиперсекреција хипофизеотропних хорм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40184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повећане продукције ГХ, те до појаве Акромегал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ЦР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једног облик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Cush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Хиперкор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зм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чешћи узроци оба облика хиперсекреције хипоталаму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хипоталамуса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екретујући ганглиоцитом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неопластични синдроми код карцинома бронха и панкеаса (који ектопично продукуј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F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Тумори хипоталам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228960" y="1077840"/>
            <a:ext cx="9372600" cy="57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исти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с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краниофарингеом, глиом оптичког нерва,менингеоми, герминоми, хамартоми, тератоми,а компресију могу вршити: грануломи и анеуризме 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ротис и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 р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ендокрине 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струкција треће коморе и хидроцефал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ја нервих структура: оптички нерв, хијазма или тракт, урастање у фронт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орални режањ мозг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е 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хипофизеотропних хормон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хипофизеалних хормон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1680" y="537840"/>
            <a:ext cx="844236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и систем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је комплексни систем који одржава стабилном унутрашњу средину упркос потенцијалним поремећај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који долазе било из спољне било из унутрашње среди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Краниофарингеом (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raniopharingeoma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044720"/>
            <a:ext cx="914400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порекла Ратхке-овог шпага, обично полази од сталка хипофизе и шири се супрасела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3-5% свих интракранијалн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велики, цистични, понекад калцификовани, локално инвазивни (само 15% је интраселарн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55% пацијената има мање од 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тренутку дијагнозе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Краниофарингеом (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raniopharingeoma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294120" y="1044720"/>
            <a:ext cx="981396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ендокрине манифестаци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80%): Знаци хидроцефалуса и повећаног интракранијалног притиска (главобоља, повраћа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едем папиле), поремећаји вида, поремећаји личности, когнитивни поремећаји, гој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е манифест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дефицит хормона хипоталамуса и хипофизе (низак раст у деце – нанизам, хипогонадизам, хиперпролактинемиј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анхипопитуитариза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Ртг селе тур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 (увећање селе, калцификације у облику флокула), ЦТ или НМР селарне региј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лед фун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м папил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Хируршка интервенција (транскранијални или трансфеноидални приступ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ре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циди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ИСФУНКЦИЈА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НЕУ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ХИПОФ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44080" y="1093320"/>
            <a:ext cx="889956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ХИПОФУНК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абетес инсипид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ниво и/или функциј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ХИПЕРФУНКЦИЈ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 неадекватне секреције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drome of inapropriate ADH, SIAD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ишен ниво и/или функциј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иабетес инсипиду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95400"/>
            <a:ext cx="91440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18960" indent="-31896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концентрисања урина због недостатка стварања и/или ефекат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 доводи до стварања велике запремине урина ниске осмолар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поталамусни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ти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фрогени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фер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тип: неосетљивост бубрежних каналића н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ретко обољење, преваленца 1:25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конгенитални, и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таски, тумори, инфекције, траума, зрачење, инфламациј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7375e"/>
                </a:solidFill>
                <a:latin typeface="Arial"/>
                <a:ea typeface="Arial"/>
              </a:rPr>
              <a:t>Централни патофизиолошки феномен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способност концентрисања ур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иабетес инсипиду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44720"/>
            <a:ext cx="942192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урија (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 л/дан), никтурија, урин светле боје, полидипсија, хипертона дехидратација (хиперосмоларност, хипернатриемија) уз хипоосмоларни ур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мањена специфична тежина (&lt;1010)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моларност (&lt;290мОсм) урина; повећана осмоларност пла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Тест дехидратације (жеђањ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Ртг селе турцик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Т и НМР селарне ре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иабетес инсипиду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244800" y="1044720"/>
            <a:ext cx="938844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nir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DV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нтраназално 10-20 мцг два пута дневно или с.ц. 1-4 мцг днев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лорпропамид 200-500 мг дневно и карбамазепин 400-600 мг дневно (за блаже облике – парцијални дефици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азидни диуретици (за периферни  ти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БОЛЕСТИ АДЕНОХИПОФ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337760"/>
            <a:ext cx="914400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суфицијенција адено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рцијална (изоловани дефицит хормона аденохипофизе - парцијални хипопитуитариза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уна (панхипопитуитариза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адено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креторни (функционални, доводе до хиперфункц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секреторни (нефункционални, могу довести до хипофункц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pitaitarism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лимични или потпуни недостатак хормона адено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↓Секреција хормона хипофи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дослед хормонског испада у хипопитуитариз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GH ►►FSH/LH ►► ТSH ►►АC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о испољавање зависи 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е наста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сте хормона који недост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056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Узрок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ypopituitarism-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у склопу других болест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еда гла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 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утоимуно запаљење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phys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аркт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eehan’s syndr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 мозга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ning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СИМПТОМИ И ЗНАЦ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657600" y="1600200"/>
            <a:ext cx="50292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ypopituitar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је често прогресиван. Мада се симптоми и знаци могу појавити изненада, обично се постепено развија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ни су понекад нејас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и суптил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и м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гу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се превидети месец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или чак година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2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НЕРВ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Н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И, ЕНДОКРИНИ И ИМУНСК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177840" y="3584520"/>
            <a:ext cx="2246400" cy="1390680"/>
          </a:xfrm>
          <a:prstGeom prst="rightArrowCallout">
            <a:avLst>
              <a:gd name="adj1" fmla="val 25002"/>
              <a:gd name="adj2" fmla="val 25000"/>
              <a:gd name="adj3" fmla="val 26922"/>
              <a:gd name="adj4" fmla="val 6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ЕРВ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6807240" y="3624120"/>
            <a:ext cx="2216160" cy="1432080"/>
          </a:xfrm>
          <a:prstGeom prst="leftArrowCallout">
            <a:avLst>
              <a:gd name="adj1" fmla="val 25002"/>
              <a:gd name="adj2" fmla="val 25000"/>
              <a:gd name="adj3" fmla="val 25792"/>
              <a:gd name="adj4" fmla="val 6667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ЕНДОКР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3824280" y="1631880"/>
            <a:ext cx="1550880" cy="1630440"/>
          </a:xfrm>
          <a:prstGeom prst="downArrowCallout">
            <a:avLst>
              <a:gd name="adj1" fmla="val 25002"/>
              <a:gd name="adj2" fmla="val 25000"/>
              <a:gd name="adj3" fmla="val 17522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МУН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2397240" y="3260880"/>
            <a:ext cx="4392360" cy="2544480"/>
          </a:xfrm>
          <a:prstGeom prst="plus">
            <a:avLst>
              <a:gd name="adj" fmla="val 12662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ржавање хомеост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нтрола раста и разво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проду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маже успостављањ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иркардијалних (дневни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итмова у организ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СИМПТОМИ И ЗНАЦИ варирају у зависности који од хормона недоста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м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ка толеранција стре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 миш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чн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тв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убитак тежине или добит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д апет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380880"/>
            <a:ext cx="914400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бдоминална нелагод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етљивост на хладно или топл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а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емећа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убита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љавост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зуха и стидне дла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ћеност зглоб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омукл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дут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иц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ача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еђ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честал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кр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 крвни притис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свест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pituitarism: T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92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збиљан заостатак у рас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спореност ми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радипсихичнос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етар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радикар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дношење топло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772400" y="1599840"/>
            <a:ext cx="914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pituitarism: AC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убитак у телесној ма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orex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пигм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роз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Л: одсуство постпарталне лак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ИНСУФИЦИЈЕНЦИЈА АДЕНОХИПОФИЗЕ</a:t>
            </a:r>
            <a:br>
              <a:rPr sz="3200"/>
            </a:b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 ети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6880" y="1905120"/>
            <a:ext cx="881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РОЂЕНИ И РАЗВОЈНИ ПОРЕМЕЋА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итуитарна дисплаз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утац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ојна дисфункциј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ЕЧЕНИ ПОРЕМЕЋА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филтратив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фламатор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ранијална ирадиј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имфоцитарни хипофизит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поплексија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ty se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pitaitarism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44080" y="1878120"/>
            <a:ext cx="8442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аркт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нгенитални дефек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е манифестације се споро испољавају и нису јасно видљиве док се не разори 75%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Синдром неадекватне секреције АДХ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262080" y="947520"/>
            <a:ext cx="940608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концентрисања урина због повећаног АДХ у односу на актуелне потребе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15-30% пацијената који су хоспитализова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тумори (бронхогени карцином), поремећаји ЦНС-а (тумори, инфламација, повреде, крварења), лекови (фенотиазини, трициклични антидепресиви, окситоцин) и болести плућа (инфекције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ни патофизиолошки феномен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ретенција воде са настанком хипотоне хиперхидратације (“тровање водом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6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600" spc="-1" strike="noStrike">
                <a:solidFill>
                  <a:srgbClr val="1f497d"/>
                </a:solidFill>
                <a:latin typeface="Arial"/>
                <a:ea typeface="Arial"/>
              </a:rPr>
              <a:t>: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неуролошке манифе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је: рабдомиоли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лошке манифестације: неспецифичне (главобоља, мучнина), дезорјентација, конфузиј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П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апади, фокалне неуролошке манифестац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Синдром неадекватне секреције АД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26880" y="1322280"/>
            <a:ext cx="947088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: смањена осмоларност плазме, хипонатриемија (На&lt; 135мМ, тешка хипонатриемија На&lt;120мМ)), хемодилу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: не раде 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: Ртг селе тур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, ЦТ и НМР селарне и других ре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 од запремине екстрацелуларног волумена (Е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је Е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већан: Рестрикција воде и примена диуре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је Е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мањен: Инфузија изотоног (0.9%) раствор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C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а (ређе у комбинацији са хипертоним - 10%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C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ИСФУНКЦИЈА АДЕНОХИПОФ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Е</a:t>
            </a:r>
            <a:br>
              <a:rPr sz="36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клиничка презента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566720"/>
            <a:ext cx="914400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ИПОФУНК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GH(ST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nismus pitui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gonadismus se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thyreosis se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corticismus se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prolactinemi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Nanismus pituita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212760" y="1176120"/>
            <a:ext cx="949176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хормона растења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код де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конгенитални дефекти (септо-оптичка дисплазија) или краниофаринге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, симетричан раст, коштана зрелост заостаје за хронолошком, незрело лице, гојаз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дневни ритам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пулсатилно лучење у току ноћ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0.10-0.15 иј/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М у циљу индукције хипогликем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Ртг шака,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интетски хормон растења (свакодневна примена с.ц. Ињекција) 0.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0.05 мг/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ditropin-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3505320" y="304920"/>
            <a:ext cx="1904760" cy="1409760"/>
          </a:xfrm>
          <a:prstGeom prst="pi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ПО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3429000" y="2143080"/>
            <a:ext cx="2133720" cy="1428840"/>
          </a:xfrm>
          <a:prstGeom prst="plus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ХИПОФ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3505320" y="4000680"/>
            <a:ext cx="2133360" cy="118080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ПЕРИФЕ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ЖЛ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429000" y="5638680"/>
            <a:ext cx="228600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ТЕЛЕ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4343400" y="17524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4343400" y="525780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343400" y="365760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 flipH="1" flipV="1">
            <a:off x="1980720" y="152280"/>
            <a:ext cx="1447920" cy="472464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1009080 h 4724640"/>
              <a:gd name="textAreaBottom" fmla="*/ 3258000 h 472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26" stAng="-5400000" swAng="5400000"/>
                <a:lnTo>
                  <a:pt x="21600" y="10281"/>
                </a:lnTo>
                <a:arcTo wR="21600" hR="9226" stAng="0" swAng="3397551"/>
                <a:lnTo>
                  <a:pt x="5850" y="21255"/>
                </a:lnTo>
                <a:lnTo>
                  <a:pt x="0" y="18979"/>
                </a:lnTo>
                <a:lnTo>
                  <a:pt x="5850" y="16012"/>
                </a:lnTo>
                <a:lnTo>
                  <a:pt x="5850" y="18106"/>
                </a:lnTo>
                <a:arcTo wR="21600" hR="9226" stAng="3397551" swAng="-3313476"/>
                <a:lnTo>
                  <a:pt x="21565" y="9753"/>
                </a:lnTo>
                <a:arcTo wR="21600" hR="9226" stAng="-84075" swAng="-5315925"/>
                <a:close/>
              </a:path>
              <a:path fill="darkenLess" w="21600" h="21600">
                <a:moveTo>
                  <a:pt x="0" y="0"/>
                </a:moveTo>
                <a:arcTo wR="21600" hR="9226" stAng="-5400000" swAng="5400000"/>
                <a:lnTo>
                  <a:pt x="21600" y="10281"/>
                </a:lnTo>
                <a:arcTo wR="21600" hR="9226" stAng="0" swAng="-84075"/>
                <a:lnTo>
                  <a:pt x="21565" y="9753"/>
                </a:lnTo>
                <a:arcTo wR="21600" hR="9226" stAng="-84075" swAng="-5315925"/>
                <a:close/>
              </a:path>
            </a:pathLst>
          </a:custGeom>
          <a:solidFill>
            <a:srgbClr val="4f81bd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 flipV="1">
            <a:off x="5562720" y="456840"/>
            <a:ext cx="1904760" cy="2666880"/>
          </a:xfrm>
          <a:custGeom>
            <a:avLst/>
            <a:gdLst>
              <a:gd name="textAreaLeft" fmla="*/ 254880 w 1904760"/>
              <a:gd name="textAreaRight" fmla="*/ 1649880 w 1904760"/>
              <a:gd name="textAreaTop" fmla="*/ 569520 h 2666880"/>
              <a:gd name="textAreaBottom" fmla="*/ 1838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26" stAng="-5400000" swAng="5400000"/>
                <a:lnTo>
                  <a:pt x="21600" y="10281"/>
                </a:lnTo>
                <a:arcTo wR="21600" hR="9226" stAng="0" swAng="3397551"/>
                <a:lnTo>
                  <a:pt x="5850" y="21255"/>
                </a:lnTo>
                <a:lnTo>
                  <a:pt x="0" y="18979"/>
                </a:lnTo>
                <a:lnTo>
                  <a:pt x="5850" y="16012"/>
                </a:lnTo>
                <a:lnTo>
                  <a:pt x="5850" y="18106"/>
                </a:lnTo>
                <a:arcTo wR="21600" hR="9226" stAng="3397551" swAng="-3313476"/>
                <a:lnTo>
                  <a:pt x="21565" y="9753"/>
                </a:lnTo>
                <a:arcTo wR="21600" hR="9226" stAng="-84075" swAng="-5315925"/>
                <a:close/>
              </a:path>
              <a:path fill="darkenLess" w="21600" h="21600">
                <a:moveTo>
                  <a:pt x="0" y="0"/>
                </a:moveTo>
                <a:arcTo wR="21600" hR="9226" stAng="-5400000" swAng="5400000"/>
                <a:lnTo>
                  <a:pt x="21600" y="10281"/>
                </a:lnTo>
                <a:arcTo wR="21600" hR="9226" stAng="0" swAng="-84075"/>
                <a:lnTo>
                  <a:pt x="21565" y="9753"/>
                </a:lnTo>
                <a:arcTo wR="21600" hR="9226" stAng="-84075" swAng="-531592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 flipV="1">
            <a:off x="5715000" y="4114800"/>
            <a:ext cx="1676520" cy="91440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191160 h 914400"/>
              <a:gd name="textAreaBottom" fmla="*/ 6530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18" stAng="-5400000" swAng="5400000"/>
                <a:lnTo>
                  <a:pt x="21600" y="10903"/>
                </a:lnTo>
                <a:arcTo wR="21600" hR="9018" stAng="0" swAng="3361466"/>
                <a:lnTo>
                  <a:pt x="5850" y="21263"/>
                </a:lnTo>
                <a:lnTo>
                  <a:pt x="0" y="18979"/>
                </a:lnTo>
                <a:lnTo>
                  <a:pt x="5850" y="16020"/>
                </a:lnTo>
                <a:lnTo>
                  <a:pt x="5850" y="17699"/>
                </a:lnTo>
                <a:arcTo wR="21600" hR="9018" stAng="3361466" swAng="-3210733"/>
                <a:lnTo>
                  <a:pt x="21482" y="9961"/>
                </a:lnTo>
                <a:arcTo wR="21600" hR="9018" stAng="-150733" swAng="-5249267"/>
                <a:close/>
              </a:path>
              <a:path fill="darkenLess" w="21600" h="21600">
                <a:moveTo>
                  <a:pt x="0" y="0"/>
                </a:moveTo>
                <a:arcTo wR="21600" hR="9018" stAng="-5400000" swAng="5400000"/>
                <a:lnTo>
                  <a:pt x="21600" y="10903"/>
                </a:lnTo>
                <a:arcTo wR="21600" hR="9018" stAng="0" swAng="-150733"/>
                <a:lnTo>
                  <a:pt x="21482" y="9961"/>
                </a:lnTo>
                <a:arcTo wR="21600" hR="9018" stAng="-150733" swAng="-5249267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28600" y="3049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ДУГА ПОВРАТНА СП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553080" y="3808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РАТКА ПОВРАТНА СП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553080" y="52578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УЛТРАКРАТКА ПОВРАТНА СП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09960" y="0"/>
            <a:ext cx="9812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Дефицит хормона растења у одраслих </a:t>
            </a:r>
            <a:br>
              <a:rPr sz="3600"/>
            </a:b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dult GH deficiency, AGHD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293760" y="1353960"/>
            <a:ext cx="9437760" cy="52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хормона растења код одрасл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оштећење хипофизе (постоперативно, пос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Р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централни тип гојазност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Л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хиперфибриногенемиј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Л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остеопенија, депресија (3 пута већ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риз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ГФ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у 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љу индукције хипогликемије), пик ГХ  мањи од 3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/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интетски хормон растењ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thyreosis se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228960" y="1252080"/>
            <a:ext cx="93726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деца: заостајање у рас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расли: клиничка слика блажег хипотироидизма (гојазност, малаксалост, умор, зимогоржљивост, хладна, сува кожа, затвор ит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: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Т4, fТ3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испитивања: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50-1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/дан (претходно искљу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 постојање хипокортициз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corticismus sec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262080" y="1077840"/>
            <a:ext cx="940608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Малаксалост, јутарња мучнина, умор, вртоглавица при устајању, хипотенз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а, поремећај свести, кома и см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: Кор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олемија и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: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Т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тест,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т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испитивања: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drocortis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20мг ујутру,10мг по подн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у случају повишене температуре и стреса, дуплирати доз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pituitarism: FSH &amp; L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enorrh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ртил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иби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трофија дој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ушкар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мпот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иби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gonadismus se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43080" y="1004400"/>
            <a:ext cx="9910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ФСХ и Л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 пуберте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ertas tar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аменореја, диспареунија, инфертилитет, касније смањење дојки, губитак пубичне маљав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558ed5"/>
                </a:solidFill>
                <a:latin typeface="Arial"/>
                <a:ea typeface="Arial"/>
              </a:rPr>
              <a:t>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мањење либида, сексуална дисфункција, стери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т, касније смањење тестиса и губитак секундарних сексуалних карактери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Естрадиол/Тестостерон, ФСХ и Л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ЛХРХ т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естрогенско-прогестеронски препар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Arial"/>
                <a:ea typeface="Arial"/>
              </a:rPr>
              <a:t>                 </a:t>
            </a:r>
            <a:r>
              <a:rPr b="1" lang="sr-Latn-CS" sz="2800" spc="-1" strike="noStrike">
                <a:solidFill>
                  <a:srgbClr val="558ed5"/>
                </a:solidFill>
                <a:latin typeface="Arial"/>
                <a:ea typeface="Arial"/>
              </a:rPr>
              <a:t>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Депо прерати тестостерона 250м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2-4 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 пуберте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ндукција пул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мпом ХР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СХ/Л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ТУМОРИ АДЕНОХИПОФ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1447920"/>
            <a:ext cx="938844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ајчешћи узроци хипо и хиперпитуитар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Чине око 10% интракранијалних неоплаз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 бити микро (&lt;10мм) и макроаденоми (&gt;10м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оноклоналног порекла, аутономне секрец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јединачни хормони: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L, GH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TSH, LH, F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лурихормонална секреција: комбинација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L, GH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T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и хормона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гликопротеин (субједин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акти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функцијск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ТУМОРИ АДЕНОХИПОФ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1447920"/>
            <a:ext cx="9453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адич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генетских синдр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: ген МЕНИН (Ту хипофизе, паратироидеја, острваца панкреас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Corney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ге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PKR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А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тачкаста пигментација коже, Ту тестиса, надбубрега и хипофиз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\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McCuneAlbright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инактивација ген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лфа (промене на костима и кожи, Ту надбубрега и хипофи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Фамилијарна акромегалија: ге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на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1q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ТУМОРИ АДЕНОХИПОФ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447560"/>
            <a:ext cx="919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ФУНКЦИЈСКИ ТУМОР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раниофарингеом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ордоми с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нингео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стиоцитоза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итуитарне метастазе (3% пацијената са малигнитет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амартоми и ганглио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лиоми (хипоталамуснии и оптичког нер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ИСФУНКЦИЈА АДЕНОХИПОФИ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95120" y="1601280"/>
            <a:ext cx="8948880" cy="48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вни поремећаји (због пропагације патолошк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а из хипофи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фталмолошке манифестације (битемпорална хеми и квадрианопс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лошке манифестације (диплопија, птоза и офталмоплегија – III, IV и VI кранијални нер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ишен интракранијални притис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зиј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зија 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олошке манифестације (хипер- и хипофункција аденохипофи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ИСФУНКЦИЈА АДЕНОХИПОФИ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44080" y="1268280"/>
            <a:ext cx="87584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ИПЕРФУН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ertas praec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thyreosis se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prolactine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omegalia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gantism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corticismus sec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М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h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95120" y="0"/>
            <a:ext cx="979632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ЕНДОКРИНОГ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27200" y="1454040"/>
            <a:ext cx="3260520" cy="7038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И МОРФОЛОГ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209600" y="4952880"/>
            <a:ext cx="3667320" cy="178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ген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то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тро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отроф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185840" y="4400640"/>
            <a:ext cx="3691080" cy="39888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измењена морф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198440" y="2590920"/>
            <a:ext cx="3678480" cy="16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ерто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ерпла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оплазија (бенигна или малиг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124600" y="1476360"/>
            <a:ext cx="3260520" cy="7038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И        ФУН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748480" y="281304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Хипер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789520" y="4352760"/>
            <a:ext cx="2522520" cy="39888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о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869080" y="561960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Хипо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847800" y="2103480"/>
            <a:ext cx="0" cy="37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5340240" y="2143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825480" y="338292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836640" y="45720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846000" y="585000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332320" y="298620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5343480" y="457200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>
            <a:off x="5332320" y="5783400"/>
            <a:ext cx="52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Hyperprolactinemia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490400"/>
            <a:ext cx="91440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ишен ниво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кр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лошка поде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 ћелија хипофизе које продукују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пролактин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: Вишак естроге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имарна хипотиреоз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ренална инсуфициј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пролактином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00000, ж:м - 20: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Хиперпрола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тинеми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044720"/>
            <a:ext cx="914400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е, поремећај видног по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♀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емећај менструације (олиго до аменореја), инфертилитет, галакт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558ed5"/>
                </a:solidFill>
                <a:latin typeface="Arial"/>
                <a:ea typeface="Arial"/>
              </a:rPr>
              <a:t>♂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либида и сексуална дисфун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Arial"/>
                <a:ea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одређивање нивоа ПРЛ у дневном профилу (неколико дана мора да буде без лекова који могу довести 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↑ПР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ласира браунила, одређује се у 8, 11 и 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ЦТ је мање сензитив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Хиперпролактинем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1044720"/>
            <a:ext cx="886608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паминергици дугог дејства, лечење око 4 го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омокрипт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за време оброка, постеп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1.25 мг/дан, максимално 15мг/дан (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з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по препарат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lod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на 4 неде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stinex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рбеголин (0,5 до 1,0мг, два пута недељно) има добру подношљив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inagolide, Pergolide, Lisur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rbus Cushing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213120" y="1191960"/>
            <a:ext cx="916164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 кортикотропних ћелија аденохипофизе који доводи до повећане продукциј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последичног хиперкортицизма ( ређе ектопична секрециј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узрок 70% од свих случајева хиперкортицизма, 10-15% свих тумора хипофиз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моноклонално порекло тум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rbus Cus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473040" y="691920"/>
            <a:ext cx="96170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ушингоидан аспек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центрипетална гојазност: специфични депои масти: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ffal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 торзо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es lun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продуктивни систе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поремећаји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губитак либида, акне, хипогонадизам (инхибиторни ефекат ГК на пулзатилнос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ичке 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агитирана депресија, летаргија, параноја, меморисјка и ког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исфункција, неса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остеопороза, успорен линеарни раст код де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ж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стањена, љубичасте стрије, модрице, пурпура, акне, хирзутизам, плеторично л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иши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лабост проксималне мускулатуре но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рдиоваскуларни 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75% оболелих), склоност тромбоемболиз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чке/ендокрине 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T, HL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ч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Глауком, егзофталмос, хемозе и катара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rbus Cus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293760" y="1044720"/>
            <a:ext cx="974736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ртизол у 24-часовном урину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невн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ил кортиз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упресиони тес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X screening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кодозажн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DEX I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0,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/6h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2 дана) и високодозаж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X II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/6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2 дана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тест (1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 и.в.) доводи до пораст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аденома хипофизе, не и код ектопичне продукциј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феноидално одклањање аденома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mma knif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случају неуспеха и рецидива, билатерална адреналектомија (повећан ризик од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ls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овог” тум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аљи раст аденом хипофиз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766800" y="0"/>
            <a:ext cx="105472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ИНСУФИЦИЈЕНЦИЈА АДЕНОХИПОФИЗЕ</a:t>
            </a:r>
            <a:br>
              <a:rPr sz="3600"/>
            </a:b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урођени и развојни поремећа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43440" y="1680840"/>
            <a:ext cx="948708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итуитарна дисплазија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плазија, хипоплазија и ектопија адено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ођајне трауме (асфиксија, церебрална хеморагија, карлична презентација пло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утаци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исгенезија септум пеллуцидум-а и цорпус цаллосум-а, мутација ХЕСX 1 (септо-оптичка дисплазија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утација специфичних ткивних фактора: Пит-1 (комбиновани ГХ, ПРЛ и ТСХ дефицит) и Проп-1 (фамилијарни ис течени облик; комбиновани ГХ, ПРЛ, ГнРХ и ТСХ дефици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9567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ИНСУФИЦИЈЕНЦИЈА АДЕНОХИПОФИЗЕ</a:t>
            </a:r>
            <a:br>
              <a:rPr sz="3600"/>
            </a:b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 стечени поремећа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1795320"/>
            <a:ext cx="91440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филтративне болести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rcoidosis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Хистиоц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X, а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оид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хемохромат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фламаторне болести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ТБЦ, микотичне инфекције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DS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, терцијални сифил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ранијална ирадијац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имфоцитарни хипофизитис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трудноћа и постпартално, убрзана СЕ, Тх. Г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поплексија хипофизе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у аденому (нефункцијском), постпартално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Sheeha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pty sella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хернијација дуре матер, обично нормална функција аденохипофизе, ређе хипопитуитар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Секреција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GH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re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убок с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до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из. Активност, стрес, повреда, сеп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еинска исхра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dopamin, L-argin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РЕ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GF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omatostatin (SST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храна богата гликоз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724280" y="2209320"/>
            <a:ext cx="4191120" cy="9622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рталитет код нелечених пацијената је 2 - 4 пута већи у односу на здраву популац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ивотни век у просеку краћи за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0% нелечених пацијената неће 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вети 60. годи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Ризици акромегал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БАЗАЛНИ СТАТУ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306440"/>
            <a:ext cx="576432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Обрасци лучења хорм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а хормона није равно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а током времена, већ постоје одређење правил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Пулсатилност у секрециј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инсулин,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LH, FS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Ритм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чнос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т</a:t>
            </a: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 у 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с</a:t>
            </a: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екрeц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e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и рита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Кортизo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сeчни 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ам (eстроген, прогестeroн, FSH, L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одиш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ам (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TSH, T4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Секрeција у посeбн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м 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с</a:t>
            </a: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тaњ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им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рес, трудноћа, пубертет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Гигантизам и Акромегал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195120" y="1044720"/>
            <a:ext cx="979632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ромега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болест која настаје као последица хиперсекрециј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одраслих (након затварања епифизеалних пукотина)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игантиз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последица хиперсекрециј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млади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преваленц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0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милион становника, инциденција 3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а милион станов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 хипофизе (99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ктопична секрециј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&lt;1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750960" y="0"/>
            <a:ext cx="101728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Ефекти хиперсекреције 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GH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 -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Гигантиз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је као последица секре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детињ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 пубертету се затварају епифизне пукотине и дуге кости остају неосетљиве на дејст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Шаке, стопала и кости лица остај осетљиве и после пубертета, тако да настављају да расту и доводе до настанка специфичног хабит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Гигантизам и Акромегал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09600" y="1044720"/>
            <a:ext cx="978048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и инапарентан ток у дузем пери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се дијагностикује након 10-ак година трајања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облика ли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глашени супраорбитални лук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 носа и уш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ромегаличан аспек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масна и груба кожа лица, изражени набори изнад очију (фронтални синуси), истурена доња ви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прогнација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роширени интердентални просто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дијастема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макроглосија, дубок глас, појачано знојење, артропатија, увећање акралних делова тела (нос, уши, стопала, шак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задебљање дисталних фалан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чки поремећаји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M2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о: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Висцеромегал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40472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омегалија: кардиомиопатија, хепатомегалиј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рдиомега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30%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Б, ХЛК, дијастолна дисф-ја, Х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крогло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тироид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С: опструкција горњег РТ с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eep apne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, дубок и промукао глас (задебљање меких тк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кривена болест познатог лиц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 има добру прогнозу ако се открије на вр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213120" y="604800"/>
            <a:ext cx="9094680" cy="57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игн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пи коло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1/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), тумори једњака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луца, меланом, лимф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ндокринопати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због ефек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механичког притиска тумо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ролактине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abetes Mellitus 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20% (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рагулаторни хормон инсулин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G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– 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гонадиз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кортиц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либидо и/или пот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92400" y="404280"/>
            <a:ext cx="95360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патија и артропат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 карпалног тун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ферна неуропатија и паресте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 проксималних миш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тисак на к. М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ну или к. Корене због пораста костију, киф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окални ефекти на хипофизу (ефекти масе тумо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а, поремећаји вида, хипопитуитаризам, рин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хидроза и масна коза (знак активности болести), хипертрихоза, акне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canthosis nigric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Гигантизам и Акромегал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09600" y="1044720"/>
            <a:ext cx="945360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↑ниво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GF-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ниво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ије поздан због пулсатилног лучењ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хиперПРЛ, хипопитуитар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зостанак супресије ниво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током ОГТ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се тумор не верификује, хиперпроду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зе бити узрокована у оквиру паранеопластичног синдр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ктопична секре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лућа и панкреас би требало прво експлорис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639720"/>
            <a:ext cx="9520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1" lang="sr-Latn-CS" sz="28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љ је нормализациј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GF-1/GH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клањање тумора и очување резерве осталих хормона адено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и: трансфеноидална екстирпација тум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мисија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4 – 76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80% микроаденома, 40% макраденома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И код коморбидитета, ниво хормона се најчешће не врати у норма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диотерапија (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mma knif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спор ефекат, хипопит. у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&gt;60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штећење очнох нерва, ризик од сек. малигн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дикаментно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готрајни аналози соматостат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ктреотид (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0м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.м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 4 недеље) и лантреоти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cond-li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агонисти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омкрипт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тагони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egvisoma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налози соматостат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126800"/>
            <a:ext cx="950904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лују прек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STR 2 i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ц. На површини соматотропних ће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римирају секреци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ују главобољу и увећање меких тк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ују величину тум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40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0 – 7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та јачи ефекат од природног 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ktreoti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а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ул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20-60m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ељ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antreoti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30-90m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ељ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asireoti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шири спектар, делује 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STR 1,2,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 терапије: ГИТ, калкулоза В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96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а има експресију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st-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86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кспресију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st-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222480" y="277920"/>
            <a:ext cx="93661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Динамски тестови у ендокринолог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ацијски тест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је суспе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 хипофункц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нивоа лезије (примарни, секундарни терцијал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пресијски тест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је суспе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 хиперфункц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нивоа лезије (примарни, секундарни терцијал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Хипоталамус и хипофи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70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таламус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главна веза између ендокриног и нервног 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физа је спојена са хипоталамусом уз помоћ инфудибул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ери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 д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физ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дено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пофи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ери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 део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пофи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Aleksandar</dc:creator>
  <dc:description/>
  <dc:language>en-US</dc:language>
  <cp:lastModifiedBy>Administrator</cp:lastModifiedBy>
  <cp:lastPrinted>2009-04-22T19:24:48Z</cp:lastPrinted>
  <dcterms:modified xsi:type="dcterms:W3CDTF">2015-08-30T13:18:14Z</dcterms:modified>
  <cp:revision>2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